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C22-9CB4-4D13-B91C-A40E636B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050-17B3-43BF-AFE4-57D70B65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AB4-8184-4508-BD50-0C9D952A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EC8-D4EA-49D4-979D-D438E341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788A-74DF-4F40-BCF3-9D631FF5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7D4-45DD-4F84-BC7D-8E4F222B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B3F-7C75-4F5B-A80A-0434875B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B73-EBF5-456C-8529-73EFA725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D0E-DF59-45B8-986C-0B971BB7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BEB-6CA7-4015-9B34-6D31B9AE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2379-88A1-4678-9203-55EAC7F5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D7A-4049-4D36-85B5-AF55104A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544E-E6A5-43C0-80B9-033B9DC75F0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3CC6-C804-48C7-A837-915585972C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obspm.fr/planets" TargetMode="External"/><Relationship Id="rId2" Type="http://schemas.openxmlformats.org/officeDocument/2006/relationships/hyperlink" Target="http://www.obspm.fr/planets" TargetMode="External"/><Relationship Id="rId3" Type="http://schemas.openxmlformats.org/officeDocument/2006/relationships/hyperlink" Target="http://www.obspm.fr/encycl/HD83443.html" TargetMode="External"/><Relationship Id="rId4" Type="http://schemas.openxmlformats.org/officeDocument/2006/relationships/hyperlink" Target="http://www.obspm.fr/encycl/HD16141.html" TargetMode="External"/><Relationship Id="rId5" Type="http://schemas.openxmlformats.org/officeDocument/2006/relationships/hyperlink" Target="http://www.obspm.fr/encycl/HD168746.html" TargetMode="External"/><Relationship Id="rId6" Type="http://schemas.openxmlformats.org/officeDocument/2006/relationships/hyperlink" Target="http://www.obspm.fr/encycl/HD46375.html" TargetMode="External"/><Relationship Id="rId7" Type="http://schemas.openxmlformats.org/officeDocument/2006/relationships/hyperlink" Target="http://www.obspm.fr/encycl/HD108147.html" TargetMode="External"/><Relationship Id="rId8" Type="http://schemas.openxmlformats.org/officeDocument/2006/relationships/hyperlink" Target="http://www.obspm.fr/encycl/HD75289.html" TargetMode="External"/><Relationship Id="rId9" Type="http://schemas.openxmlformats.org/officeDocument/2006/relationships/hyperlink" Target="http://www.obspm.fr/encycl/51Peg.html" TargetMode="External"/><Relationship Id="rId10" Type="http://schemas.openxmlformats.org/officeDocument/2006/relationships/hyperlink" Target="http://www.obspm.fr/encycl/BD-10_3166.html" TargetMode="External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ptical and Microwave Spectroscopy of Long-period Variable S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7428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Esipov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 E. Lekh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,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 M. Pashchenk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 S. Rotta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 G. Rudnitskij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V. Samodurov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 A. Tolmachev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ernberg Astronomical Institute, Moscow, Rus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stituto Nacional de Astro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sica, Óptica y Electrónic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nantzintla, Méx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ushchino Radio Astronomy Observatory, Moscow Region, Rus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A95F-51AD-48FB-A86B-0DC17E8F46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wo Kinds of the H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 Stellar Ma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133720"/>
            <a:ext cx="80010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ble masers, emitting throughout 20 years (R Aql, RR Aql, RS Vir, S CrB, X Hy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ient masers, strong flares intermitting with long quiescent intervals without detectable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emiss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U Ori, R Cas, U Au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285-3B58-4622-A5EC-DDFFC7EA72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00" y="151920"/>
            <a:ext cx="909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RS Virginis </a:t>
            </a:r>
            <a:r>
              <a:rPr b="0" lang="en-AU" sz="2000" spc="-1" strike="noStrike">
                <a:solidFill>
                  <a:srgbClr val="ffff00"/>
                </a:solidFill>
                <a:latin typeface="Times New Roman"/>
              </a:rPr>
              <a:t>(Lekht et al. 2001)</a:t>
            </a:r>
            <a:br>
              <a:rPr sz="2800"/>
            </a:b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 Visual light curve (AFOEV)              H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O line profi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47840" y="-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3405240" cy="5029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44452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4BA-BEA5-49E8-B48A-7FD9FE2E8E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RS Virginis, H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O, 1981-2000 </a:t>
            </a:r>
            <a:r>
              <a:rPr b="0" lang="en-AU" sz="2000" spc="-1" strike="noStrike">
                <a:solidFill>
                  <a:srgbClr val="ffff00"/>
                </a:solidFill>
                <a:latin typeface="Times New Roman"/>
              </a:rPr>
              <a:t>(Lekht et al. 2001)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00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1181160"/>
            <a:ext cx="4840200" cy="489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5E36-A637-422E-979F-48B3307941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RS Virginis, H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O, 1981-2000 </a:t>
            </a:r>
            <a:r>
              <a:rPr b="0" lang="en-AU" sz="2000" spc="-1" strike="noStrike">
                <a:solidFill>
                  <a:srgbClr val="ffff00"/>
                </a:solidFill>
                <a:latin typeface="Times New Roman"/>
              </a:rPr>
              <a:t>(Lekht et al. 2001)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1811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1181160"/>
            <a:ext cx="4027320" cy="5029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029200" y="1181160"/>
            <a:ext cx="41148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O flux correlates with the visual light curve,   H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O lags behind</a:t>
            </a:r>
            <a:br>
              <a:rPr sz="2800"/>
            </a:b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by 0.1-0.3</a:t>
            </a:r>
            <a:r>
              <a:rPr b="0" i="1" lang="en-AU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57C-94E8-4634-96C5-4363A9F3E0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RS Vir, H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O-</a:t>
            </a:r>
            <a:r>
              <a:rPr b="0" i="1" lang="en-AU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Times New Roman"/>
              </a:rPr>
              <a:t>vis</a:t>
            </a: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 correlation </a:t>
            </a:r>
            <a:r>
              <a:rPr b="0" lang="en-AU" sz="2000" spc="-1" strike="noStrike">
                <a:solidFill>
                  <a:srgbClr val="ffff00"/>
                </a:solidFill>
                <a:latin typeface="Times New Roman"/>
              </a:rPr>
              <a:t>(Lekht et al. 2001)</a:t>
            </a: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0" i="1" lang="en-AU" sz="2000" spc="-1" strike="noStrike">
                <a:solidFill>
                  <a:srgbClr val="ffff00"/>
                </a:solidFill>
                <a:latin typeface="CMR10"/>
              </a:rPr>
              <a:t>R</a:t>
            </a:r>
            <a:r>
              <a:rPr b="0" lang="en-AU" sz="2000" spc="-1" strike="noStrike">
                <a:solidFill>
                  <a:srgbClr val="ffff00"/>
                </a:solidFill>
                <a:latin typeface="CMMI10"/>
              </a:rPr>
              <a:t>(</a:t>
            </a:r>
            <a:r>
              <a:rPr b="0" lang="en-AU" sz="2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AU" sz="2000" spc="-1" strike="noStrike">
                <a:solidFill>
                  <a:srgbClr val="ffff00"/>
                </a:solidFill>
                <a:latin typeface="CMR10"/>
              </a:rPr>
              <a:t>) = </a:t>
            </a:r>
            <a:r>
              <a:rPr b="0" lang="en-AU" sz="2000" spc="-1" strike="noStrike">
                <a:solidFill>
                  <a:srgbClr val="ffff00"/>
                </a:solidFill>
                <a:latin typeface="CMSY10"/>
              </a:rPr>
              <a:t>&lt;</a:t>
            </a:r>
            <a:r>
              <a:rPr b="0" lang="en-AU" sz="2000" spc="-1" strike="noStrike">
                <a:solidFill>
                  <a:srgbClr val="ffff00"/>
                </a:solidFill>
                <a:latin typeface="CMR7"/>
              </a:rPr>
              <a:t>F</a:t>
            </a:r>
            <a:r>
              <a:rPr b="0" lang="en-AU" sz="2000" spc="-1" strike="noStrike" baseline="-25000">
                <a:solidFill>
                  <a:srgbClr val="ffff00"/>
                </a:solidFill>
                <a:latin typeface="CMR5"/>
              </a:rPr>
              <a:t>H</a:t>
            </a:r>
            <a:r>
              <a:rPr b="0" lang="en-AU" sz="2000" spc="-1" strike="noStrike" baseline="-25000">
                <a:solidFill>
                  <a:srgbClr val="ffff00"/>
                </a:solidFill>
                <a:latin typeface="CMR7"/>
              </a:rPr>
              <a:t>2</a:t>
            </a:r>
            <a:r>
              <a:rPr b="0" lang="en-AU" sz="2000" spc="-1" strike="noStrike" baseline="-25000">
                <a:solidFill>
                  <a:srgbClr val="ffff00"/>
                </a:solidFill>
                <a:latin typeface="CMR10"/>
              </a:rPr>
              <a:t>O</a:t>
            </a:r>
            <a:r>
              <a:rPr b="0" lang="en-AU" sz="2000" spc="-1" strike="noStrike">
                <a:solidFill>
                  <a:srgbClr val="ffff00"/>
                </a:solidFill>
                <a:latin typeface="CMMI10"/>
              </a:rPr>
              <a:t>(t </a:t>
            </a:r>
            <a:r>
              <a:rPr b="0" lang="en-AU" sz="2000" spc="-1" strike="noStrike">
                <a:solidFill>
                  <a:srgbClr val="ffff00"/>
                </a:solidFill>
                <a:latin typeface="CMR10"/>
              </a:rPr>
              <a:t>+ </a:t>
            </a:r>
            <a:r>
              <a:rPr b="0" lang="en-AU" sz="2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AU" sz="2000" spc="-1" strike="noStrike">
                <a:solidFill>
                  <a:srgbClr val="ffff00"/>
                </a:solidFill>
                <a:latin typeface="CMR10"/>
              </a:rPr>
              <a:t>) </a:t>
            </a:r>
            <a:r>
              <a:rPr b="0" i="1" lang="en-AU" sz="2000" spc="-1" strike="noStrike">
                <a:solidFill>
                  <a:srgbClr val="ffff00"/>
                </a:solidFill>
                <a:latin typeface="CMR7"/>
              </a:rPr>
              <a:t>F</a:t>
            </a:r>
            <a:r>
              <a:rPr b="0" lang="en-AU" sz="2000" spc="-1" strike="noStrike" baseline="-25000">
                <a:solidFill>
                  <a:srgbClr val="ffff00"/>
                </a:solidFill>
                <a:latin typeface="CMR7"/>
              </a:rPr>
              <a:t>vi</a:t>
            </a:r>
            <a:r>
              <a:rPr b="0" lang="en-AU" sz="2000" spc="-1" strike="noStrike" baseline="-25000">
                <a:solidFill>
                  <a:srgbClr val="ffff00"/>
                </a:solidFill>
                <a:latin typeface="CMR10"/>
              </a:rPr>
              <a:t>s</a:t>
            </a:r>
            <a:r>
              <a:rPr b="0" lang="en-AU" sz="2000" spc="-1" strike="noStrike">
                <a:solidFill>
                  <a:srgbClr val="ffff00"/>
                </a:solidFill>
                <a:latin typeface="CMMI10"/>
              </a:rPr>
              <a:t>(</a:t>
            </a:r>
            <a:r>
              <a:rPr b="0" lang="en-AU" sz="2000" spc="-1" strike="noStrike">
                <a:solidFill>
                  <a:srgbClr val="ffff00"/>
                </a:solidFill>
                <a:latin typeface="CMR10"/>
              </a:rPr>
              <a:t>t)&gt;</a:t>
            </a:r>
            <a:r>
              <a:rPr b="0" lang="en-AU" sz="2000" spc="-1" strike="noStrike">
                <a:solidFill>
                  <a:srgbClr val="ffff00"/>
                </a:solidFill>
                <a:latin typeface="CMSY10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CMMI10"/>
              </a:rPr>
              <a:t>/&lt;</a:t>
            </a:r>
            <a:r>
              <a:rPr b="0" lang="en-AU" sz="2000" spc="-1" strike="noStrike">
                <a:solidFill>
                  <a:srgbClr val="ffff00"/>
                </a:solidFill>
                <a:latin typeface="CMSY10"/>
              </a:rPr>
              <a:t> </a:t>
            </a:r>
            <a:r>
              <a:rPr b="0" i="1" lang="en-AU" sz="2000" spc="-1" strike="noStrike">
                <a:solidFill>
                  <a:srgbClr val="ffff00"/>
                </a:solidFill>
                <a:latin typeface="CMR7"/>
              </a:rPr>
              <a:t>F</a:t>
            </a:r>
            <a:r>
              <a:rPr b="0" lang="en-AU" sz="2000" spc="-1" strike="noStrike" baseline="-25000">
                <a:solidFill>
                  <a:srgbClr val="ffff00"/>
                </a:solidFill>
                <a:latin typeface="CMR5"/>
              </a:rPr>
              <a:t>H</a:t>
            </a:r>
            <a:r>
              <a:rPr b="0" lang="en-AU" sz="2000" spc="-1" strike="noStrike" baseline="-25000">
                <a:solidFill>
                  <a:srgbClr val="ffff00"/>
                </a:solidFill>
                <a:latin typeface="CMR7"/>
              </a:rPr>
              <a:t>2</a:t>
            </a:r>
            <a:r>
              <a:rPr b="0" lang="en-AU" sz="2000" spc="-1" strike="noStrike" baseline="-25000">
                <a:solidFill>
                  <a:srgbClr val="ffff00"/>
                </a:solidFill>
                <a:latin typeface="CMR10"/>
              </a:rPr>
              <a:t>O</a:t>
            </a:r>
            <a:r>
              <a:rPr b="0" lang="en-AU" sz="2000" spc="-1" strike="noStrike">
                <a:solidFill>
                  <a:srgbClr val="ffff00"/>
                </a:solidFill>
                <a:latin typeface="CMMI10"/>
              </a:rPr>
              <a:t>(t </a:t>
            </a:r>
            <a:r>
              <a:rPr b="0" lang="en-AU" sz="2000" spc="-1" strike="noStrike">
                <a:solidFill>
                  <a:srgbClr val="ffff00"/>
                </a:solidFill>
                <a:latin typeface="CMR10"/>
              </a:rPr>
              <a:t>+ </a:t>
            </a:r>
            <a:r>
              <a:rPr b="0" lang="en-AU" sz="2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AU" sz="2000" spc="-1" strike="noStrike">
                <a:solidFill>
                  <a:srgbClr val="ffff00"/>
                </a:solidFill>
                <a:latin typeface="CMR10"/>
              </a:rPr>
              <a:t>) </a:t>
            </a:r>
            <a:r>
              <a:rPr b="0" i="1" lang="en-AU" sz="2000" spc="-1" strike="noStrike">
                <a:solidFill>
                  <a:srgbClr val="ffff00"/>
                </a:solidFill>
                <a:latin typeface="CMR7"/>
              </a:rPr>
              <a:t>F</a:t>
            </a:r>
            <a:r>
              <a:rPr b="0" lang="en-AU" sz="2000" spc="-1" strike="noStrike" baseline="-25000">
                <a:solidFill>
                  <a:srgbClr val="ffff00"/>
                </a:solidFill>
                <a:latin typeface="CMR7"/>
              </a:rPr>
              <a:t>vi</a:t>
            </a:r>
            <a:r>
              <a:rPr b="0" lang="en-AU" sz="2000" spc="-1" strike="noStrike" baseline="-25000">
                <a:solidFill>
                  <a:srgbClr val="ffff00"/>
                </a:solidFill>
                <a:latin typeface="CMR10"/>
              </a:rPr>
              <a:t>s</a:t>
            </a:r>
            <a:r>
              <a:rPr b="0" lang="en-AU" sz="2000" spc="-1" strike="noStrike">
                <a:solidFill>
                  <a:srgbClr val="ffff00"/>
                </a:solidFill>
                <a:latin typeface="CMMI10"/>
              </a:rPr>
              <a:t>(</a:t>
            </a:r>
            <a:r>
              <a:rPr b="0" lang="en-AU" sz="2000" spc="-1" strike="noStrike">
                <a:solidFill>
                  <a:srgbClr val="ffff00"/>
                </a:solidFill>
                <a:latin typeface="CMR10"/>
              </a:rPr>
              <a:t>t)&gt;</a:t>
            </a:r>
            <a:r>
              <a:rPr b="0" lang="en-AU" sz="2000" spc="-1" strike="noStrike" baseline="-25000">
                <a:solidFill>
                  <a:srgbClr val="ffff00"/>
                </a:solidFill>
                <a:latin typeface="CMR7"/>
              </a:rPr>
              <a:t>ma</a:t>
            </a:r>
            <a:r>
              <a:rPr b="0" lang="en-AU" sz="2000" spc="-1" strike="noStrike" baseline="-25000">
                <a:solidFill>
                  <a:srgbClr val="ffff00"/>
                </a:solidFill>
                <a:latin typeface="CMMI10"/>
              </a:rPr>
              <a:t>x</a:t>
            </a:r>
            <a:br>
              <a:rPr sz="28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7648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95256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0CD-3F39-4E01-9B51-1D4DD64493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U Orionis, H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O, 1980-2000</a:t>
            </a:r>
            <a:br>
              <a:rPr sz="2800"/>
            </a:br>
            <a:r>
              <a:rPr b="0" lang="en-AU" sz="2000" spc="-1" strike="noStrike">
                <a:solidFill>
                  <a:srgbClr val="ffff00"/>
                </a:solidFill>
                <a:latin typeface="Times New Roman"/>
              </a:rPr>
              <a:t>Rudnitskij et al. 200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18116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190520"/>
            <a:ext cx="4875120" cy="4981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57800" y="1638360"/>
            <a:ext cx="358128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D presentation of the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 line profiles for the Mira U Ori. The periodic character of the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 maser variations is obvi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CE0-0DED-4FD7-8E65-83D964B3BA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U Orionis, H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O, 1980-2000</a:t>
            </a:r>
            <a:br>
              <a:rPr sz="2800"/>
            </a:br>
            <a:r>
              <a:rPr b="0" lang="en-AU" sz="2000" spc="-1" strike="noStrike">
                <a:solidFill>
                  <a:srgbClr val="ffff00"/>
                </a:solidFill>
                <a:latin typeface="Times New Roman"/>
              </a:rPr>
              <a:t>Rudnitskij et al. 200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1337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972120" cy="439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5313240"/>
            <a:ext cx="81532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trong flare between June and October 1980, thereafter damping oscillations, with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maxima delayed with respect to visual maxima by 0.1-0.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A55-220D-42D9-93A2-217B1D802E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 Ori: Variations of the Phase Delay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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1980-1992 </a:t>
            </a:r>
            <a:br>
              <a:rPr sz="32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Berulis et al. 1994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PHDELAY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458200" cy="2198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95280" y="45259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erperiod of 9 stellar periods (trend confirmed by later observa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5DB-089C-40AF-B38F-FD36A7F5DF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U Orionis, H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O, VLA, 1988 Dec 12</a:t>
            </a:r>
            <a:br>
              <a:rPr sz="2800"/>
            </a:br>
            <a:r>
              <a:rPr b="0" lang="en-AU" sz="2000" spc="-1" strike="noStrike">
                <a:solidFill>
                  <a:srgbClr val="ffff00"/>
                </a:solidFill>
                <a:latin typeface="Times New Roman"/>
              </a:rPr>
              <a:t>Bowers &amp; Johnston, 1994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1181160"/>
            <a:ext cx="6705720" cy="496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3FA-D456-440B-88E7-1218D15E93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 Aql, H</a:t>
            </a: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raql_sth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81920" cy="55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8E5-2C27-4D11-9D6E-F04E4D3530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imes New Roman"/>
              </a:rPr>
              <a:t>Multiwavelength Program of Mira Stud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cal spectroscopy of the stars (H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5-cm telescope of the Crimean Observatory, Sternberg Astronomical Institute, diffraction spectrograph, CCD camera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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25 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1D0-DF1F-4E5F-A52A-E0EE397892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Times New Roman"/>
              </a:rPr>
              <a:t>R Leo</a:t>
            </a: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AU" sz="2000" spc="-1" strike="noStrike">
                <a:solidFill>
                  <a:srgbClr val="ffff00"/>
                </a:solidFill>
                <a:latin typeface="Times New Roman"/>
              </a:rPr>
              <a:t>(Esipov et al., 1999)</a:t>
            </a:r>
            <a:br>
              <a:rPr sz="2000"/>
            </a:b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Optical spectrum                                   H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O li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r1" descr=""/>
          <p:cNvPicPr/>
          <p:nvPr/>
        </p:nvPicPr>
        <p:blipFill>
          <a:blip r:embed="rId1"/>
          <a:stretch/>
        </p:blipFill>
        <p:spPr>
          <a:xfrm>
            <a:off x="4724280" y="1181160"/>
            <a:ext cx="4129200" cy="5067360"/>
          </a:xfrm>
          <a:prstGeom prst="rect">
            <a:avLst/>
          </a:prstGeom>
          <a:ln w="0">
            <a:noFill/>
          </a:ln>
        </p:spPr>
      </p:pic>
      <p:pic>
        <p:nvPicPr>
          <p:cNvPr id="94" name="r3" descr=""/>
          <p:cNvPicPr/>
          <p:nvPr/>
        </p:nvPicPr>
        <p:blipFill>
          <a:blip r:embed="rId2"/>
          <a:stretch/>
        </p:blipFill>
        <p:spPr>
          <a:xfrm>
            <a:off x="304920" y="1181160"/>
            <a:ext cx="3679560" cy="506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BEF-A165-4D0F-90F4-89B528D279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 Leo  H</a:t>
            </a: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-H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rleo_s1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52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215-7F96-4547-B25F-C1C291ABF4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 Aur, H</a:t>
            </a: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8" name="uaur_sth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96080" cy="53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550-4E8C-412E-BBBD-C527A23A6E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`Superperiods’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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ations (U Or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ient mas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U Aur, R Cas, U Or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69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a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ging shock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Wood 197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earing and disappearing quasi-stationary lay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Hinkle et al. 197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pan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n elliptical orbi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udnitskij 19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010-BF66-45F4-93E6-BD66A66EE7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Pumping by a Spherical Shock</a:t>
            </a:r>
            <a:br>
              <a:rPr sz="2800"/>
            </a:br>
            <a:r>
              <a:rPr b="0" lang="en-AU" sz="2000" spc="-1" strike="noStrike">
                <a:solidFill>
                  <a:srgbClr val="ffff00"/>
                </a:solidFill>
                <a:latin typeface="Times New Roman"/>
              </a:rPr>
              <a:t>(Rudnitskij &amp; Chuprikov, 1990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3048120"/>
            <a:ext cx="13716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133720"/>
            <a:ext cx="3276720" cy="327636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2438280"/>
            <a:ext cx="2666880" cy="2667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029200" y="167652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57800" y="13366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057400" y="4419720"/>
            <a:ext cx="23623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" y="47656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3048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08480" y="2936880"/>
            <a:ext cx="19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Postsh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masering sh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4E7-FA29-459E-A851-DD4C4C743D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 Merging Shocks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Wood 1979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905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156120" cy="5181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114800" y="1447920"/>
            <a:ext cx="46483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agation of consecutive shocks during 10 stellar pulsation period;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Eulerian coordinate, connected with the radius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cks’ overtaking and merging is visible. Merged shocks can produce stronger Balmer and maser emission once per several stellar cyc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528-4E70-4DAA-AFB0-97EE4901C2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. Appearance and Disappearance of the Quasi-Stationary Layer 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~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m,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~800 K)</a:t>
            </a:r>
            <a:br>
              <a:rPr sz="32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Hinkle et al. 1984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048120"/>
            <a:ext cx="13716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2133720"/>
            <a:ext cx="3276720" cy="327636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438280"/>
            <a:ext cx="2666880" cy="266724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029200" y="167652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57800" y="13366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55280" y="35305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3048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08480" y="2936880"/>
            <a:ext cx="19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Postsh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masering sh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5410080"/>
            <a:ext cx="1158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02440" y="510552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S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1793880"/>
            <a:ext cx="4098960" cy="4170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3048120"/>
            <a:ext cx="1158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97E-07A8-402C-ACF5-B5F8B76CFF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Times New Roman"/>
              </a:rPr>
              <a:t>Extra-solar Planets Catalog</a:t>
            </a:r>
            <a:r>
              <a:rPr b="0" lang="en-A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AU" sz="2000" spc="-1" strike="noStrike">
                <a:solidFill>
                  <a:srgbClr val="ffff00"/>
                </a:solidFill>
                <a:latin typeface="Times New Roman"/>
              </a:rPr>
              <a:t>From the </a:t>
            </a:r>
            <a:r>
              <a:rPr b="0" lang="en-AU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Extrasolar</a:t>
            </a:r>
            <a:r>
              <a:rPr b="0" lang="en-AU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 Planets Encyclopaedia</a:t>
            </a:r>
            <a:r>
              <a:rPr b="0" lang="en-AU" sz="2000" spc="-1" strike="noStrike">
                <a:solidFill>
                  <a:srgbClr val="ffff00"/>
                </a:solidFill>
                <a:latin typeface="Times New Roman"/>
              </a:rPr>
              <a:t> http://www.obspm.fr/planets </a:t>
            </a:r>
            <a:br>
              <a:rPr sz="2000"/>
            </a:br>
            <a:r>
              <a:rPr b="1" lang="en-AU" sz="2000" spc="-1" strike="noStrike">
                <a:solidFill>
                  <a:srgbClr val="ffff00"/>
                </a:solidFill>
                <a:latin typeface="Times New Roman"/>
              </a:rPr>
              <a:t>Global statistics (as of Apr 12, 2002): </a:t>
            </a:r>
            <a:br>
              <a:rPr sz="2000"/>
            </a:br>
            <a:r>
              <a:rPr b="0" lang="en-AU" sz="2000" spc="-1" strike="noStrike">
                <a:solidFill>
                  <a:srgbClr val="ffff00"/>
                </a:solidFill>
                <a:latin typeface="Times New Roman"/>
              </a:rPr>
              <a:t>69 planetary systems, 77 planets, 7 multiple planets systems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927080" y="1752480"/>
            <a:ext cx="5540400" cy="4519800"/>
            <a:chOff x="1927080" y="1752480"/>
            <a:chExt cx="5540400" cy="4519800"/>
          </a:xfrm>
        </p:grpSpPr>
        <p:grpSp>
          <p:nvGrpSpPr>
            <p:cNvPr id="131" name=""/>
            <p:cNvGrpSpPr/>
            <p:nvPr/>
          </p:nvGrpSpPr>
          <p:grpSpPr>
            <a:xfrm>
              <a:off x="1930320" y="1755720"/>
              <a:ext cx="5533200" cy="4512240"/>
              <a:chOff x="1930320" y="1755720"/>
              <a:chExt cx="5533200" cy="451224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1930320" y="1755720"/>
                <a:ext cx="1164600" cy="593640"/>
                <a:chOff x="1930320" y="1755720"/>
                <a:chExt cx="1164600" cy="5936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936800" y="1762560"/>
                  <a:ext cx="1151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TA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930320" y="1755720"/>
                  <a:ext cx="11646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3094920" y="1755720"/>
                <a:ext cx="936000" cy="593640"/>
                <a:chOff x="3094920" y="1755720"/>
                <a:chExt cx="936000" cy="5936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101400" y="1762560"/>
                  <a:ext cx="9226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[.SIN</a:t>
                  </a:r>
                  <a:r>
                    <a:rPr b="1" i="1" lang="en-AU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</a:t>
                  </a:r>
                  <a:r>
                    <a:rPr b="1" lang="en-AU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]</a:t>
                  </a:r>
                  <a:br>
                    <a:rPr sz="1400"/>
                  </a:br>
                  <a:r>
                    <a:rPr b="0" lang="en-AU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Jup. mass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94920" y="1755720"/>
                  <a:ext cx="9360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031280" y="1755720"/>
                <a:ext cx="1070640" cy="593640"/>
                <a:chOff x="4031280" y="1755720"/>
                <a:chExt cx="1070640" cy="5936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038120" y="1762560"/>
                  <a:ext cx="1056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emimajor</a:t>
                  </a:r>
                  <a:br>
                    <a:rPr sz="1400"/>
                  </a:br>
                  <a:r>
                    <a:rPr b="1" lang="en-AU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xis</a:t>
                  </a:r>
                  <a:r>
                    <a:rPr b="0" lang="en-AU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(AU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031280" y="1755720"/>
                  <a:ext cx="10706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5102280" y="1755720"/>
                <a:ext cx="936360" cy="593640"/>
                <a:chOff x="5102280" y="1755720"/>
                <a:chExt cx="936360" cy="5936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5109120" y="1762560"/>
                  <a:ext cx="922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ERIOD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ay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02280" y="1755720"/>
                  <a:ext cx="9363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039000" y="1755720"/>
                <a:ext cx="655560" cy="593640"/>
                <a:chOff x="6039000" y="1755720"/>
                <a:chExt cx="655560" cy="5936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045480" y="1762560"/>
                  <a:ext cx="6422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CC.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39000" y="1755720"/>
                  <a:ext cx="65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6694560" y="1755720"/>
                <a:ext cx="768960" cy="593640"/>
                <a:chOff x="6694560" y="1755720"/>
                <a:chExt cx="768960" cy="5936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6701400" y="1762560"/>
                  <a:ext cx="7549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CL.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deg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694560" y="1755720"/>
                  <a:ext cx="768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930320" y="2363400"/>
                <a:ext cx="1164600" cy="594000"/>
                <a:chOff x="1930320" y="2363400"/>
                <a:chExt cx="1164600" cy="594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936800" y="2370240"/>
                  <a:ext cx="1151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ff0000"/>
                      </a:solidFill>
                      <a:uFillTx/>
                      <a:latin typeface="Times New Roman"/>
                      <a:ea typeface="Times New Roman"/>
                      <a:hlinkClick r:id="rId3"/>
                    </a:rPr>
                    <a:t>HD 8344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30320" y="2363400"/>
                  <a:ext cx="11646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094920" y="2363400"/>
                <a:ext cx="936000" cy="594000"/>
                <a:chOff x="3094920" y="2363400"/>
                <a:chExt cx="936000" cy="594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101400" y="2370240"/>
                  <a:ext cx="9226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35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br>
                    <a:rPr sz="1400"/>
                  </a:b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16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094920" y="2363400"/>
                  <a:ext cx="9360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031280" y="2363400"/>
                <a:ext cx="1070640" cy="594000"/>
                <a:chOff x="4031280" y="2363400"/>
                <a:chExt cx="1070640" cy="594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038120" y="2370240"/>
                  <a:ext cx="1056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38 </a:t>
                  </a:r>
                  <a:br>
                    <a:rPr sz="1400"/>
                  </a:b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17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031280" y="2363400"/>
                  <a:ext cx="107064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02280" y="2363400"/>
                <a:ext cx="936360" cy="594000"/>
                <a:chOff x="5102280" y="2363400"/>
                <a:chExt cx="936360" cy="594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09120" y="2370240"/>
                  <a:ext cx="922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9861</a:t>
                  </a:r>
                  <a:br>
                    <a:rPr sz="1400"/>
                  </a:b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9.83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02280" y="2363400"/>
                  <a:ext cx="9363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39000" y="2363400"/>
                <a:ext cx="655560" cy="594000"/>
                <a:chOff x="6039000" y="2363400"/>
                <a:chExt cx="655560" cy="594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045480" y="2370240"/>
                  <a:ext cx="6422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8 </a:t>
                  </a:r>
                  <a:br>
                    <a:rPr sz="1400"/>
                  </a:b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4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39000" y="2363400"/>
                  <a:ext cx="6555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694560" y="2363400"/>
                <a:ext cx="768960" cy="594000"/>
                <a:chOff x="6694560" y="2363400"/>
                <a:chExt cx="768960" cy="594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701400" y="2370240"/>
                  <a:ext cx="7549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 </a:t>
                  </a:r>
                  <a:br>
                    <a:rPr sz="1400"/>
                  </a:b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694560" y="2363400"/>
                  <a:ext cx="7689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930320" y="2971440"/>
                <a:ext cx="1164600" cy="459000"/>
                <a:chOff x="1930320" y="2971440"/>
                <a:chExt cx="1164600" cy="459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936800" y="2978280"/>
                  <a:ext cx="11512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ff0000"/>
                      </a:solidFill>
                      <a:uFillTx/>
                      <a:latin typeface="Times New Roman"/>
                      <a:ea typeface="Times New Roman"/>
                      <a:hlinkClick r:id="rId4"/>
                    </a:rPr>
                    <a:t>HD 1614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930320" y="2971440"/>
                  <a:ext cx="1164600" cy="45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094920" y="2971440"/>
                <a:ext cx="936000" cy="459000"/>
                <a:chOff x="3094920" y="2971440"/>
                <a:chExt cx="936000" cy="4590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101400" y="2978280"/>
                  <a:ext cx="9226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215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094920" y="2971440"/>
                  <a:ext cx="936000" cy="45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031280" y="2971440"/>
                <a:ext cx="1070640" cy="459000"/>
                <a:chOff x="4031280" y="2971440"/>
                <a:chExt cx="1070640" cy="459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038120" y="2978280"/>
                  <a:ext cx="10569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35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031280" y="2971440"/>
                  <a:ext cx="1070640" cy="45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102280" y="2971440"/>
                <a:ext cx="936360" cy="459000"/>
                <a:chOff x="5102280" y="2971440"/>
                <a:chExt cx="936360" cy="4590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109120" y="2978280"/>
                  <a:ext cx="9223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5.82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102280" y="2971440"/>
                  <a:ext cx="936360" cy="45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039000" y="2971440"/>
                <a:ext cx="655560" cy="459000"/>
                <a:chOff x="6039000" y="2971440"/>
                <a:chExt cx="655560" cy="4590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045480" y="2978280"/>
                  <a:ext cx="64224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28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039000" y="2971440"/>
                  <a:ext cx="655560" cy="45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694560" y="2971440"/>
                <a:ext cx="768960" cy="459000"/>
                <a:chOff x="6694560" y="2971440"/>
                <a:chExt cx="768960" cy="4590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701400" y="2978280"/>
                  <a:ext cx="754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694560" y="2971440"/>
                  <a:ext cx="768960" cy="45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930320" y="3444480"/>
                <a:ext cx="1164600" cy="458640"/>
                <a:chOff x="1930320" y="3444480"/>
                <a:chExt cx="1164600" cy="4586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936800" y="3451320"/>
                  <a:ext cx="11512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ff0000"/>
                      </a:solidFill>
                      <a:uFillTx/>
                      <a:latin typeface="Times New Roman"/>
                      <a:ea typeface="Times New Roman"/>
                      <a:hlinkClick r:id="rId5"/>
                    </a:rPr>
                    <a:t>HD 168746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930320" y="3444480"/>
                  <a:ext cx="116460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094920" y="3444480"/>
                <a:ext cx="936000" cy="458640"/>
                <a:chOff x="3094920" y="3444480"/>
                <a:chExt cx="936000" cy="4586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101400" y="3451320"/>
                  <a:ext cx="9226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24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094920" y="3444480"/>
                  <a:ext cx="93600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4031280" y="3444480"/>
                <a:ext cx="1070640" cy="458640"/>
                <a:chOff x="4031280" y="3444480"/>
                <a:chExt cx="1070640" cy="4586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4038120" y="3451320"/>
                  <a:ext cx="10569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66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031280" y="3444480"/>
                  <a:ext cx="107064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5102280" y="3444480"/>
                <a:ext cx="936360" cy="458640"/>
                <a:chOff x="5102280" y="3444480"/>
                <a:chExt cx="936360" cy="4586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5109120" y="3451320"/>
                  <a:ext cx="9223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.409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102280" y="3444480"/>
                  <a:ext cx="93636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6039000" y="3444480"/>
                <a:ext cx="655560" cy="458640"/>
                <a:chOff x="6039000" y="3444480"/>
                <a:chExt cx="655560" cy="4586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6045480" y="3451320"/>
                  <a:ext cx="64224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039000" y="3444480"/>
                  <a:ext cx="65556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694560" y="3444480"/>
                <a:ext cx="768960" cy="458640"/>
                <a:chOff x="6694560" y="3444480"/>
                <a:chExt cx="768960" cy="4586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701400" y="3451320"/>
                  <a:ext cx="754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694560" y="3444480"/>
                  <a:ext cx="76896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930320" y="3917520"/>
                <a:ext cx="1164600" cy="458640"/>
                <a:chOff x="1930320" y="3917520"/>
                <a:chExt cx="1164600" cy="458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936800" y="3924360"/>
                  <a:ext cx="11512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ff0000"/>
                      </a:solidFill>
                      <a:uFillTx/>
                      <a:latin typeface="Times New Roman"/>
                      <a:ea typeface="Times New Roman"/>
                      <a:hlinkClick r:id="rId6"/>
                    </a:rPr>
                    <a:t>HD 46375</a:t>
                  </a:r>
                  <a:r>
                    <a:rPr b="0" lang="en-US" sz="1400" spc="-1" strike="noStrike" u="sng">
                      <a:solidFill>
                        <a:srgbClr val="ffffff"/>
                      </a:solidFill>
                      <a:uFillTx/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930320" y="3917520"/>
                  <a:ext cx="116460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94920" y="3917520"/>
                <a:ext cx="936000" cy="458640"/>
                <a:chOff x="3094920" y="3917520"/>
                <a:chExt cx="936000" cy="458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01400" y="3924360"/>
                  <a:ext cx="9226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249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94920" y="3917520"/>
                  <a:ext cx="93600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4031280" y="3917520"/>
                <a:ext cx="1070640" cy="458640"/>
                <a:chOff x="4031280" y="3917520"/>
                <a:chExt cx="1070640" cy="458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038120" y="3924360"/>
                  <a:ext cx="10569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4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31280" y="3917520"/>
                  <a:ext cx="107064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5102280" y="3917520"/>
                <a:ext cx="936360" cy="458640"/>
                <a:chOff x="5102280" y="3917520"/>
                <a:chExt cx="936360" cy="458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109120" y="3924360"/>
                  <a:ext cx="9223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024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102280" y="3917520"/>
                  <a:ext cx="93636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039000" y="3917520"/>
                <a:ext cx="655560" cy="458640"/>
                <a:chOff x="6039000" y="3917520"/>
                <a:chExt cx="655560" cy="458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045480" y="3924360"/>
                  <a:ext cx="64224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039000" y="3917520"/>
                  <a:ext cx="65556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94560" y="3917520"/>
                <a:ext cx="768960" cy="458640"/>
                <a:chOff x="6694560" y="3917520"/>
                <a:chExt cx="768960" cy="458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1400" y="3924360"/>
                  <a:ext cx="754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94560" y="3917520"/>
                  <a:ext cx="76896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930320" y="4390560"/>
                <a:ext cx="1164600" cy="458640"/>
                <a:chOff x="1930320" y="4390560"/>
                <a:chExt cx="1164600" cy="458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936800" y="4397400"/>
                  <a:ext cx="11512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ff0000"/>
                      </a:solidFill>
                      <a:uFillTx/>
                      <a:latin typeface="Times New Roman"/>
                      <a:ea typeface="Times New Roman"/>
                      <a:hlinkClick r:id="rId7"/>
                    </a:rPr>
                    <a:t>HD 108147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930320" y="4390560"/>
                  <a:ext cx="116460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94920" y="4390560"/>
                <a:ext cx="936000" cy="458640"/>
                <a:chOff x="3094920" y="4390560"/>
                <a:chExt cx="936000" cy="458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01400" y="4397400"/>
                  <a:ext cx="9226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34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94920" y="4390560"/>
                  <a:ext cx="93600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031280" y="4390560"/>
                <a:ext cx="1070640" cy="458640"/>
                <a:chOff x="4031280" y="4390560"/>
                <a:chExt cx="1070640" cy="458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038120" y="4397400"/>
                  <a:ext cx="10569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98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031280" y="4390560"/>
                  <a:ext cx="107064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5102280" y="4390560"/>
                <a:ext cx="936360" cy="458640"/>
                <a:chOff x="5102280" y="4390560"/>
                <a:chExt cx="936360" cy="458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5109120" y="4397400"/>
                  <a:ext cx="9223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0.88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102280" y="4390560"/>
                  <a:ext cx="93636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6039000" y="4390560"/>
                <a:ext cx="655560" cy="458640"/>
                <a:chOff x="6039000" y="4390560"/>
                <a:chExt cx="655560" cy="4586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045480" y="4397400"/>
                  <a:ext cx="64224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558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039000" y="4390560"/>
                  <a:ext cx="65556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6694560" y="4390560"/>
                <a:ext cx="768960" cy="458640"/>
                <a:chOff x="6694560" y="4390560"/>
                <a:chExt cx="768960" cy="4586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6701400" y="4397400"/>
                  <a:ext cx="754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694560" y="4390560"/>
                  <a:ext cx="76896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930320" y="4863600"/>
                <a:ext cx="1164600" cy="458640"/>
                <a:chOff x="1930320" y="4863600"/>
                <a:chExt cx="1164600" cy="4586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936800" y="4870440"/>
                  <a:ext cx="11512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ff0000"/>
                      </a:solidFill>
                      <a:uFillTx/>
                      <a:latin typeface="Times New Roman"/>
                      <a:ea typeface="Times New Roman"/>
                      <a:hlinkClick r:id="rId8"/>
                    </a:rPr>
                    <a:t>HD 75289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930320" y="4863600"/>
                  <a:ext cx="116460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094920" y="4863600"/>
                <a:ext cx="936000" cy="458640"/>
                <a:chOff x="3094920" y="4863600"/>
                <a:chExt cx="936000" cy="4586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3101400" y="4870440"/>
                  <a:ext cx="9226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42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094920" y="4863600"/>
                  <a:ext cx="93600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031280" y="4863600"/>
                <a:ext cx="1070640" cy="458640"/>
                <a:chOff x="4031280" y="4863600"/>
                <a:chExt cx="1070640" cy="458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038120" y="4870440"/>
                  <a:ext cx="10569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46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031280" y="4863600"/>
                  <a:ext cx="107064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102280" y="4863600"/>
                <a:ext cx="936360" cy="458640"/>
                <a:chOff x="5102280" y="4863600"/>
                <a:chExt cx="936360" cy="4586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09120" y="4870440"/>
                  <a:ext cx="9223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51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102280" y="4863600"/>
                  <a:ext cx="93636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039000" y="4863600"/>
                <a:ext cx="655560" cy="458640"/>
                <a:chOff x="6039000" y="4863600"/>
                <a:chExt cx="655560" cy="458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045480" y="4870440"/>
                  <a:ext cx="64224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54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039000" y="4863600"/>
                  <a:ext cx="65556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6694560" y="4863600"/>
                <a:ext cx="768960" cy="458640"/>
                <a:chOff x="6694560" y="4863600"/>
                <a:chExt cx="768960" cy="4586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701400" y="4870440"/>
                  <a:ext cx="754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694560" y="4863600"/>
                  <a:ext cx="76896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1930320" y="5336280"/>
                <a:ext cx="1164600" cy="458640"/>
                <a:chOff x="1930320" y="5336280"/>
                <a:chExt cx="1164600" cy="4586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936800" y="5343120"/>
                  <a:ext cx="11512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ff0000"/>
                      </a:solidFill>
                      <a:uFillTx/>
                      <a:latin typeface="Times New Roman"/>
                      <a:ea typeface="Times New Roman"/>
                      <a:hlinkClick r:id="rId9"/>
                    </a:rPr>
                    <a:t>51 Peg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930320" y="5336280"/>
                  <a:ext cx="116460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3094920" y="5336280"/>
                <a:ext cx="936000" cy="458640"/>
                <a:chOff x="3094920" y="5336280"/>
                <a:chExt cx="936000" cy="4586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3101400" y="5343120"/>
                  <a:ext cx="9226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47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094920" y="5336280"/>
                  <a:ext cx="93600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031280" y="5336280"/>
                <a:ext cx="1070640" cy="458640"/>
                <a:chOff x="4031280" y="5336280"/>
                <a:chExt cx="1070640" cy="4586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038120" y="5343120"/>
                  <a:ext cx="10569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5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031280" y="5336280"/>
                  <a:ext cx="107064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102280" y="5336280"/>
                <a:ext cx="936360" cy="458640"/>
                <a:chOff x="5102280" y="5336280"/>
                <a:chExt cx="936360" cy="4586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5109120" y="5343120"/>
                  <a:ext cx="9223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.2293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102280" y="5336280"/>
                  <a:ext cx="93636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039000" y="5336280"/>
                <a:ext cx="655560" cy="458640"/>
                <a:chOff x="6039000" y="5336280"/>
                <a:chExt cx="655560" cy="4586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045480" y="5343120"/>
                  <a:ext cx="64224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039000" y="5336280"/>
                  <a:ext cx="65556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694560" y="5336280"/>
                <a:ext cx="768960" cy="458640"/>
                <a:chOff x="6694560" y="5336280"/>
                <a:chExt cx="768960" cy="4586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701400" y="5343120"/>
                  <a:ext cx="754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694560" y="5336280"/>
                  <a:ext cx="76896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1930320" y="5809320"/>
                <a:ext cx="1164600" cy="458640"/>
                <a:chOff x="1930320" y="5809320"/>
                <a:chExt cx="1164600" cy="4586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1936800" y="5816160"/>
                  <a:ext cx="11512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ff0000"/>
                      </a:solidFill>
                      <a:uFillTx/>
                      <a:latin typeface="Times New Roman"/>
                      <a:ea typeface="Times New Roman"/>
                      <a:hlinkClick r:id="rId10"/>
                    </a:rPr>
                    <a:t>BD -10 3166</a:t>
                  </a:r>
                  <a:r>
                    <a:rPr b="0" lang="en-US" sz="1400" spc="-1" strike="noStrike" u="sng">
                      <a:solidFill>
                        <a:srgbClr val="ffffff"/>
                      </a:solidFill>
                      <a:uFillTx/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930320" y="5809320"/>
                  <a:ext cx="116460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3094920" y="5809320"/>
                <a:ext cx="936000" cy="458640"/>
                <a:chOff x="3094920" y="5809320"/>
                <a:chExt cx="936000" cy="4586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3101400" y="5816160"/>
                  <a:ext cx="9226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48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094920" y="5809320"/>
                  <a:ext cx="93600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031280" y="5809320"/>
                <a:ext cx="1070640" cy="458640"/>
                <a:chOff x="4031280" y="5809320"/>
                <a:chExt cx="1070640" cy="458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4038120" y="5816160"/>
                  <a:ext cx="10569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46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031280" y="5809320"/>
                  <a:ext cx="107064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5102280" y="5809320"/>
                <a:ext cx="936360" cy="458640"/>
                <a:chOff x="5102280" y="5809320"/>
                <a:chExt cx="936360" cy="458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109120" y="5816160"/>
                  <a:ext cx="9223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487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102280" y="5809320"/>
                  <a:ext cx="93636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6039000" y="5809320"/>
                <a:ext cx="655560" cy="458640"/>
                <a:chOff x="6039000" y="5809320"/>
                <a:chExt cx="655560" cy="4586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6045480" y="5816160"/>
                  <a:ext cx="64224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039000" y="5809320"/>
                  <a:ext cx="65556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6694560" y="5809320"/>
                <a:ext cx="768960" cy="458640"/>
                <a:chOff x="6694560" y="5809320"/>
                <a:chExt cx="768960" cy="4586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701400" y="5816160"/>
                  <a:ext cx="754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&lt; 84.3</a:t>
                  </a:r>
                  <a:r>
                    <a:rPr b="1" lang="en-US" sz="1400" spc="-1" strike="noStrike" baseline="30000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694560" y="5809320"/>
                  <a:ext cx="768960" cy="4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1927080" y="1752480"/>
              <a:ext cx="5540400" cy="4519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6F4-DBC4-46DD-A4A3-D162B6343A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52920" y="404280"/>
            <a:ext cx="444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3. Planet-driven shock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see poster P208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343160" y="15476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15476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3780000" y="1257480"/>
            <a:ext cx="4190760" cy="4190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3720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1441440" y="160200"/>
            <a:ext cx="9615600" cy="4888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439040" y="3238200"/>
            <a:ext cx="11588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64000" y="261612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65800" y="4705200"/>
            <a:ext cx="1704960" cy="34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971840" y="516888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85360" y="5214960"/>
            <a:ext cx="128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26200" y="4159080"/>
            <a:ext cx="441360" cy="10922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821640" y="838080"/>
            <a:ext cx="1233360" cy="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772400" y="404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b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1763640"/>
            <a:ext cx="3429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cks may be not strong enoug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oduce appreciable radio continuum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ccount for the observed Balmer emission, a local source like this can be propo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3D5-2C71-4464-80BC-669474984B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 Aur,  </a:t>
            </a: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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6400-6800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Å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uaur_sp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53400" cy="50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86EA-1A84-45E4-9D15-8492A283F9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imes New Roman"/>
              </a:rPr>
              <a:t>Multiwavelength Program of Mira Stud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o spectral observations of maser emission of the stars in 1.35-cm rotational line of the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molecule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(6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, 22235 MH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-meter radio telescope, Pushchino Radio Astronomy Observatory, Russian Academy of Sciences, FET receiver (Tnoise=150 K), 128-channel spectrometer, resolution 7.5 kHz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0.1 km/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01E-A7A1-4E50-8E94-3529908265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T-22 Telescope, Pushchin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rtorig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90672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24C-7864-4058-A094-E91F5B5D30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imes New Roman"/>
              </a:rPr>
              <a:t>Multiwavelength Program of Mira Stud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 observations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HKL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125-cm telescope of the Crimean Observatory, Sternberg Astron. Institute, infrared photo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88C0-397D-4989-A37F-1EBBC634C4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 Leo, Light Cur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18116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rleo_ir" descr=""/>
          <p:cNvPicPr/>
          <p:nvPr/>
        </p:nvPicPr>
        <p:blipFill>
          <a:blip r:embed="rId1"/>
          <a:stretch/>
        </p:blipFill>
        <p:spPr>
          <a:xfrm>
            <a:off x="1066680" y="1181160"/>
            <a:ext cx="7105680" cy="51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2B2-D037-4EE8-8F9D-675966C88B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imes New Roman"/>
              </a:rPr>
              <a:t>Multiwavelength Program of Mira Stud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181160"/>
            <a:ext cx="853416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ervations of the stars at centimeter wavelengths for a systematic search of the post-shock radio continuum e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tralia Telescope Compact Array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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6 and 3 cm 1995 November, 34 stars, negative result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hapman &amp; Rudnitskij, PASA, submit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65C-328F-4A76-A98E-06301C1410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vel Diagram of 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3356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71600" y="965160"/>
            <a:ext cx="6234120" cy="513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Mass-Losing Pulsating Stars and Their Circumstellar Matter, Sendai, Japan May 13–16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DBC-83CA-40AB-8A4C-8552AB8D61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23:11:25Z</dcterms:created>
  <dc:creator>G.Rudnitskij</dc:creator>
  <dc:description/>
  <dc:language>en-US</dc:language>
  <cp:lastModifiedBy>C-Mozgi</cp:lastModifiedBy>
  <dcterms:modified xsi:type="dcterms:W3CDTF">2002-05-10T04:45:31Z</dcterms:modified>
  <cp:revision>70</cp:revision>
  <dc:subject>Contribution</dc:subject>
  <dc:title>Optical and Microwave Spectroscopy of Long-Period Variable Stars</dc:title>
</cp:coreProperties>
</file>